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D2A-CCE8-488C-BFD0-E1914695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576-D83F-4858-B2C0-BC187C9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5B9-9E87-44BC-99A6-D2CE7259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D99-1D5C-4753-800C-936C974D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88F-91E1-4268-8147-4F86A1D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78F-6D21-4EA9-BCDA-9F97B40B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20E-5AD4-4B3B-A1DF-ECFCFB8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FDD-A9EC-43A0-9B7A-D4C06F49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642-E2AA-43CC-B20E-5F54AFFC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E5D-4E08-4508-91EC-B1EC12EE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00B-89D1-42A7-9F5F-7CD7F1E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138-7A2D-4292-BB09-4B34DB2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B0A5-15D4-4780-8920-C140EDDC6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ihan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1711440" cy="256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53684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46069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GRAPHY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428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oper Black"/>
              </a:rPr>
              <a:t>Robyn Rihanna Fenty was born on February, 20, 1988 in St. Mich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oper Black"/>
              </a:rPr>
              <a:t>Her music is influenced byf Reggae, R&amp;B, Dancehall and pop. She is very famous thanks her albums:  “Don't Stop The Music”  and “Umbrella".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57680" y="836640"/>
            <a:ext cx="448632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609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87840" y="0"/>
            <a:ext cx="4556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When she was at Primary school, she formed a trio with two of her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At the age of 15, Rihanna received her great opport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oper Black"/>
              </a:rPr>
              <a:t>Artists she has worked with: </a:t>
            </a:r>
            <a:r>
              <a:rPr b="0" lang="en-US" sz="2400" spc="-1" strike="noStrike">
                <a:solidFill>
                  <a:srgbClr val="0000ff"/>
                </a:solidFill>
                <a:latin typeface="Cooper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Bey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Jay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Mariah Ca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Chris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Timb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oper Black"/>
              </a:rPr>
              <a:t>David Bis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64000" y="2394000"/>
            <a:ext cx="558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Bradley Hand ITC"/>
              </a:rPr>
              <a:t>B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Bradley Hand ITC"/>
              </a:rPr>
              <a:t>Mónica Poz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8:03Z</dcterms:created>
  <dc:creator>Alumno49</dc:creator>
  <dc:description/>
  <dc:language>en-US</dc:language>
  <cp:lastModifiedBy>Alumno49</cp:lastModifiedBy>
  <dcterms:modified xsi:type="dcterms:W3CDTF">2008-06-04T08:13:51Z</dcterms:modified>
  <cp:revision>5</cp:revision>
  <dc:subject/>
  <dc:title>Diapositiva 1</dc:title>
</cp:coreProperties>
</file>